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2365-3800-4762-AF66-E27DE320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384-44AD-4855-AE3C-09D05DAD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ert.psychiatricnews.org/2012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3E1B-17A7-4FB6-BBB6-E04907F9D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Diagram_of_the_human_heart_(cropped)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526B-D682-4121-8BB3-9D8A0995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life/human-biology/blo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3505-9658-41D2-90DF-6767A908C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ennmedicine.org/health_info/bloodless/00020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C1AF-5843-4DC8-9844-B94AAA95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oodservices.ca/CentreApps/Internet/uw_V502_MainEngine.nsf/page/Plasma?Open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1E63-CC2E-4B60-B431-62187B61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78C4-8077-4133-82E5-5EB9F1FC2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SEM_blood_cell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090-68DB-4098-9837-915BAAFA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SEM_blood_cell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9F8B-7DA2-48CD-8C25-6D924178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onoraquest.com/test-information/understanding-the-complete-blood-count-cbc/?AspxAutoDetectCookieSupport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7766-873A-4877-B385-04BF56BCA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Blood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C6F3-5DE9-46A2-84B9-55E2C1F7E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C696-6547-4B2D-9352-0631796D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isegeek.com/what-is-the-rhesus-fact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B822-1E5C-4E42-BCB4-570AAEE3E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01science.com/parameciu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A77-D90F-4875-B26D-61F68EDF4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dvancedaquarist.com/2004/4/inv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F7BA-9058-411B-8466-A2299DA80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anpop.com/clubs/monkeys/images/14750795/title/monkey-litlle-tiger-cute-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ED36-E594-4825-BC7B-64844AC2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sio/PhysioCircul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BE62-431A-418C-AC3D-C7804EEF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7259-EF93-46D1-8673-DB2A8A839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sio/PhysioCircul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B611-8F9C-4DE4-B9B5-1810EFCF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sio/PhysioCircul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hambers to 4 cha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803-85DA-44DF-AA07-B682E966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BF4-57B1-4060-9438-02934E8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B72-25B8-4E76-818D-6CE61A98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91C-0ED0-4176-B6DA-197D7050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033-5EAF-4DB4-8467-6327173F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154-1158-4567-BD36-7248E120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7F5-B5D0-423A-B724-716AB739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EAA-9856-46F9-8CE7-F8B0321A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760-2A6D-45D7-B56A-8EBCFCFD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777-C2F9-497F-876B-F9340C73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1EB-658D-4D53-B7E0-413F254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5BC-0032-4DC3-B8BB-1E98AD0F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A91F-122C-43F3-BB01-529A1DC3D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A0Wb3gc4m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600px-Diagram_of_the_human_heart_(cropped)"/>
          <p:cNvPicPr/>
          <p:nvPr/>
        </p:nvPicPr>
        <p:blipFill>
          <a:blip r:embed="rId1"/>
          <a:stretch/>
        </p:blipFill>
        <p:spPr>
          <a:xfrm>
            <a:off x="1409760" y="30492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hway of blood through the he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JA0Wb3gc4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19432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/suspended gases, proteins (albumins, globulins, fibrinogens), nutrients, ions, waste produc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luid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tep6_150"/>
          <p:cNvPicPr/>
          <p:nvPr/>
        </p:nvPicPr>
        <p:blipFill>
          <a:blip r:embed="rId1"/>
          <a:stretch/>
        </p:blipFill>
        <p:spPr>
          <a:xfrm>
            <a:off x="4648320" y="2817720"/>
            <a:ext cx="38098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ythr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concave, have no nucleus carry oxygen &amp;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red-blood-cells"/>
          <p:cNvPicPr/>
          <p:nvPr/>
        </p:nvPicPr>
        <p:blipFill>
          <a:blip r:embed="rId1"/>
          <a:stretch/>
        </p:blipFill>
        <p:spPr>
          <a:xfrm>
            <a:off x="4648320" y="2644920"/>
            <a:ext cx="3809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uk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k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482px-SEM_blood_cells"/>
          <p:cNvPicPr/>
          <p:nvPr/>
        </p:nvPicPr>
        <p:blipFill>
          <a:blip r:embed="rId1"/>
          <a:stretch/>
        </p:blipFill>
        <p:spPr>
          <a:xfrm>
            <a:off x="4900680" y="1981080"/>
            <a:ext cx="330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ell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in blood clo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482px-SEM_blood_cells"/>
          <p:cNvPicPr/>
          <p:nvPr/>
        </p:nvPicPr>
        <p:blipFill>
          <a:blip r:embed="rId1"/>
          <a:stretch/>
        </p:blipFill>
        <p:spPr>
          <a:xfrm>
            <a:off x="4900680" y="1981080"/>
            <a:ext cx="330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BC_Patient_Table"/>
          <p:cNvPicPr/>
          <p:nvPr/>
        </p:nvPicPr>
        <p:blipFill>
          <a:blip r:embed="rId1"/>
          <a:stretch/>
        </p:blipFill>
        <p:spPr>
          <a:xfrm>
            <a:off x="1434960" y="228600"/>
            <a:ext cx="6274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410px-ABO_blood_type"/>
          <p:cNvPicPr/>
          <p:nvPr/>
        </p:nvPicPr>
        <p:blipFill>
          <a:blip r:embed="rId1"/>
          <a:stretch/>
        </p:blipFill>
        <p:spPr>
          <a:xfrm>
            <a:off x="1376280" y="1981080"/>
            <a:ext cx="639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its fun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substances to and fro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&amp;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-rhesus-factor-set"/>
          <p:cNvPicPr/>
          <p:nvPr/>
        </p:nvPicPr>
        <p:blipFill>
          <a:blip r:embed="rId1"/>
          <a:stretch/>
        </p:blipFill>
        <p:spPr>
          <a:xfrm>
            <a:off x="1741320" y="1981080"/>
            <a:ext cx="565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29" descr="parameciumdrop9_300"/>
          <p:cNvPicPr/>
          <p:nvPr/>
        </p:nvPicPr>
        <p:blipFill>
          <a:blip r:embed="rId1"/>
          <a:stretch/>
        </p:blipFill>
        <p:spPr>
          <a:xfrm>
            <a:off x="2092320" y="1981080"/>
            <a:ext cx="495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ult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32" descr="image_preview"/>
          <p:cNvPicPr/>
          <p:nvPr/>
        </p:nvPicPr>
        <p:blipFill>
          <a:blip r:embed="rId1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r Mult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onkey-and-litlle-tiger-So-cute-monkeys-14750795-500-330"/>
          <p:cNvPicPr/>
          <p:nvPr/>
        </p:nvPicPr>
        <p:blipFill>
          <a:blip r:embed="rId1"/>
          <a:stretch/>
        </p:blipFill>
        <p:spPr>
          <a:xfrm>
            <a:off x="1454040" y="1981080"/>
            <a:ext cx="623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42-02-OpenClosedCircSys-AL"/>
          <p:cNvPicPr/>
          <p:nvPr/>
        </p:nvPicPr>
        <p:blipFill>
          <a:blip r:embed="rId1"/>
          <a:stretch/>
        </p:blipFill>
        <p:spPr>
          <a:xfrm>
            <a:off x="750960" y="1981080"/>
            <a:ext cx="7718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2 chambers to 4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igure-40-01-03abcd"/>
          <p:cNvPicPr/>
          <p:nvPr/>
        </p:nvPicPr>
        <p:blipFill>
          <a:blip r:embed="rId1"/>
          <a:stretch/>
        </p:blipFill>
        <p:spPr>
          <a:xfrm>
            <a:off x="1979640" y="228600"/>
            <a:ext cx="5261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42-03-VertebrateCircSys-AL"/>
          <p:cNvPicPr/>
          <p:nvPr/>
        </p:nvPicPr>
        <p:blipFill>
          <a:blip r:embed="rId1"/>
          <a:stretch/>
        </p:blipFill>
        <p:spPr>
          <a:xfrm>
            <a:off x="685800" y="1569960"/>
            <a:ext cx="77724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02:21:19Z</dcterms:created>
  <dc:creator>rubina khan</dc:creator>
  <dc:description/>
  <dc:language>en-US</dc:language>
  <cp:lastModifiedBy>rubina khan</cp:lastModifiedBy>
  <dcterms:modified xsi:type="dcterms:W3CDTF">2017-05-18T04:07:42Z</dcterms:modified>
  <cp:revision>61</cp:revision>
  <dc:subject/>
  <dc:title>The Circulatory System</dc:title>
</cp:coreProperties>
</file>